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9BB-5CD4-4AED-8E19-3D4B4F64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1DC-1A4F-468F-958E-D5657CD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CA3-8ED8-4433-9855-F9B207D4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5FA-7A90-4702-B82D-2E9B7176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A37-E348-499C-AEDB-C2D7D853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000-02B9-4413-B67C-2B12DDF4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F09-A651-4106-8591-D78FE529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EEB-9438-4090-AC70-0B7314C4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A7E-5CD9-4647-ABDD-F503B114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56C-1B6F-4461-B15E-7BB587E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205-3DB3-48E2-9FAC-C55B4A06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8FC-655C-480B-9E93-A5244AEC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1D3-76E5-410B-9D9B-3A844ABDF54D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867280"/>
            <a:ext cx="33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1125360"/>
            <a:ext cx="518472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b71"/>
                </a:solidFill>
                <a:latin typeface="Verdana"/>
              </a:rPr>
              <a:t>Joint Workshop between EMSA and D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-ordinated at-sea and shoreline pollution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8c7"/>
                </a:solidFill>
                <a:latin typeface="Verdana"/>
              </a:rPr>
              <a:t>Lisbon, 30 Jun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9800" y="3741840"/>
            <a:ext cx="1807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259-F354-4D29-8103-376E255292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78c7"/>
                </a:solidFill>
                <a:latin typeface="Verdana"/>
              </a:rPr>
              <a:t>Participants Group C : </a:t>
            </a:r>
            <a:r>
              <a:rPr b="0" lang="en-US" sz="2800" spc="-1" strike="noStrike">
                <a:solidFill>
                  <a:srgbClr val="0078c7"/>
                </a:solidFill>
                <a:latin typeface="Verdana"/>
              </a:rPr>
              <a:t>Black Sea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45880"/>
            <a:ext cx="7772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Facilitator – Peter Billing (DG Env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G - Dariya Pisheva - Bulgarian Maritime Administration, Directorate Burgas &amp; Svetoslav Sabenkov - Ministry of Emergency Situations Bulgaria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HU - Dr. Eva Deseo - Ministry of Environment and Water, Hungar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RO - Bucuresteanu Dumitru – Romanian Naval Authority &amp; Chiriac Adrian – Romanian Waters Constanta – Romania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lack Sea Commission - Alexe Adrian – Gheorghe - Sea Alarm – Hugo Nijkamp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522-7DCF-4BB5-831D-83D36C07A8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78c7"/>
                </a:solidFill>
                <a:latin typeface="Verdana"/>
              </a:rPr>
              <a:t>Scenario Group C : </a:t>
            </a:r>
            <a:r>
              <a:rPr b="0" lang="en-US" sz="2800" spc="-1" strike="noStrike">
                <a:solidFill>
                  <a:srgbClr val="0078c7"/>
                </a:solidFill>
                <a:latin typeface="Verdana"/>
              </a:rPr>
              <a:t>Black Sea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73360"/>
            <a:ext cx="777240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5 hour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ago the GAMMA oil tanker (deadweight tonnage of 100.000), which was en route to Constanta, following a loss of steering grounded approximately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1km off the coast of Romania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(44°10’N; 28°40’E) resulting in 4 bottom tanks being holed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pproximately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20.000 ton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of heavy crude oil spilled into the sea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pproximately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500 kilometre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of shoreline (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in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Bulgaria, Romania and Turkey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) are at risk of being contaminated from oil reaching shor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Current situation: time = spill + 5 hours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. Although local response may already be underway, overall response strategy is still to be determined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1E6-A5ED-425D-9938-BEE2D6044A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National level – questions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2b71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What will be the chosen response strategy in the countries affected?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Romania: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MRCC will be notified (by ship or otherwise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Constanta County Prefect will be notified by MRCC-&gt; “suggest activate NCP”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MRCC sends POLREP message to all BS CP’s and BS Commissio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MRCC sends message to MIC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MRCC Marine Inspectorate for emergency operations (ISU): onshore activities (protection, assistance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2b71"/>
                </a:solidFill>
                <a:uFillTx/>
                <a:latin typeface="Verdana"/>
              </a:rPr>
              <a:t>Bulgaria</a:t>
            </a: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MRCC receives report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71"/>
                </a:solidFill>
                <a:latin typeface="Verdana"/>
              </a:rPr>
              <a:t>Notification private company (Cleanup at sea)) + DG Civil protectio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04A-1C74-406A-B741-51FDA48376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National level – questions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2) Which authorities are in charge of selecting response strategy?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2211"/>
                </a:solidFill>
                <a:latin typeface="Verdana"/>
              </a:rPr>
              <a:t>Stage 1 (Starting incident response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b71"/>
                </a:solidFill>
                <a:uFillTx/>
                <a:latin typeface="Verdana"/>
              </a:rPr>
              <a:t>Romania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Prefect is overall in control (final say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Maritime pollution: Maritime division (RNA) decides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Coastline: ISU decides (supported by Romanian Waters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(no real spill experience) Cooperation essentia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Consider: National availability, neighbouring country availability, EMSA assistance( through MIC); OSR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b71"/>
                </a:solidFill>
                <a:uFillTx/>
                <a:latin typeface="Verdana"/>
              </a:rPr>
              <a:t>Bulgaria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Regional Government is overall in control (Governor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(up-scaling is needed) Activate national and regional pla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Shoreline cleanup: Civil protection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2211"/>
                </a:solidFill>
                <a:latin typeface="Verdana"/>
              </a:rPr>
              <a:t>Stage 2 (Developing large incident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Coordination at national level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398-FE8E-48AA-BB0C-174FB1AF7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National level – questions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3) What response operations will be put in place?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2b71"/>
                </a:solidFill>
                <a:uFillTx/>
                <a:latin typeface="Verdana"/>
              </a:rPr>
              <a:t>Romania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Civil Protection coordinates and Romanian Waters will do the following: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Monitor pollution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(private contractors): booms/skimmer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Financial administration (Claim management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Own labs (at sea/on land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Link with MRCC via operating commander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2b71"/>
                </a:solidFill>
                <a:uFillTx/>
                <a:latin typeface="Verdana"/>
              </a:rPr>
              <a:t>Bulgaria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Civil Protection: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Monitor beach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76920" indent="-376920">
              <a:lnSpc>
                <a:spcPct val="80000"/>
              </a:lnSpc>
              <a:spcBef>
                <a:spcPts val="45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Private companie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09D-AF48-4328-9821-6C7291CE6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National level – questions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3) What response operations will be put in place?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2b71"/>
                </a:solidFill>
                <a:uFillTx/>
                <a:latin typeface="Verdana"/>
              </a:rPr>
              <a:t>What about sensitive areas?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(Romania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At Prefect layer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consultative body (scientists, local institutions, ngos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hese bodies can be activated to deal with sensitive habitats/speci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(Bulgaria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Advice will be requested from Environmental Ministr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BA4-A64B-46CA-A559-56DBAB542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Regional/ EU level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Black Sea Commission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ctivate regional Contingency Pla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(threshold 700 t pollution notification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Get in touch with MIC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Request for assessments (and other assistance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operate with MIC on development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deally experts from region with regional knowledge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lso experts from outside region (specific expertise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199-FD60-4ADC-98AA-98DBC51CC3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8c7"/>
                </a:solidFill>
                <a:uFillTx/>
                <a:latin typeface="Verdana"/>
              </a:rPr>
              <a:t>Regional/ EU level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operation at regional level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mmon language neede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OSRL or MIC?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OSRL = private compan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MIC will source from other Member States (out of affected region), not from private compani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dded values from EMSA/MIC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f whole region is overwhelme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ap into multitude of resourc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31E-57B3-4C98-8F4A-CE4434C8C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1:05:30Z</dcterms:created>
  <dc:creator>guegast</dc:creator>
  <dc:description/>
  <dc:language>en-US</dc:language>
  <cp:lastModifiedBy>SSE</cp:lastModifiedBy>
  <cp:lastPrinted>2004-03-26T09:05:49Z</cp:lastPrinted>
  <dcterms:modified xsi:type="dcterms:W3CDTF">2009-07-14T16:40:00Z</dcterms:modified>
  <cp:revision>350</cp:revision>
  <dc:subject/>
  <dc:title>Slide 1</dc:title>
</cp:coreProperties>
</file>